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3BE-9283-4D96-97DB-2D1E20A8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DAE-9520-412B-BFCF-B171D7C3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B5A-0770-4B7E-A14F-22EB41F0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F2C-3897-439A-9D17-701818A3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59D-2B99-4FA3-B7D0-11AA429C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F53-49A0-4128-B2CC-E21B9628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B0F-9BC0-4CAE-AC73-30096868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EEF-C59A-4BB4-9056-B6005252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CBB-097C-48EB-B3E9-FFB80386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8B1-F044-4D33-A92C-8F831E56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7E6-73E5-4EDD-BA0A-E78727C7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029-32C4-4891-BF54-19A94FA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D1D3-4DEB-4393-AF4C-757F5B8D826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563920" y="1378080"/>
            <a:ext cx="715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house Appliances Control Syste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141880" y="38307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11995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21474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http://upload.wikimedia.org/wikipedia/commons/c/c7/TomateJungpflanzenAnzuchtNiederlande.jpg"/>
          <p:cNvPicPr/>
          <p:nvPr/>
        </p:nvPicPr>
        <p:blipFill>
          <a:blip r:embed="rId1"/>
          <a:stretch/>
        </p:blipFill>
        <p:spPr>
          <a:xfrm>
            <a:off x="8345520" y="3830760"/>
            <a:ext cx="325260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\\dougal\cs0m$\sxh33m\Desktop\OOS\UserCase.jpg"/>
          <p:cNvPicPr/>
          <p:nvPr/>
        </p:nvPicPr>
        <p:blipFill>
          <a:blip r:embed="rId1"/>
          <a:stretch/>
        </p:blipFill>
        <p:spPr>
          <a:xfrm>
            <a:off x="3166920" y="1944720"/>
            <a:ext cx="7223400" cy="48340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3166920" y="696960"/>
            <a:ext cx="715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 Diagra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256520" y="2266920"/>
            <a:ext cx="2905200" cy="269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2"/>
          <a:stretch/>
        </p:blipFill>
        <p:spPr>
          <a:xfrm>
            <a:off x="2262240" y="1824120"/>
            <a:ext cx="292428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9"/>
          <p:cNvSpPr/>
          <p:nvPr/>
        </p:nvSpPr>
        <p:spPr>
          <a:xfrm>
            <a:off x="3166920" y="696960"/>
            <a:ext cx="715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6827760" y="3676680"/>
            <a:ext cx="2914560" cy="315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648320" y="0"/>
            <a:ext cx="2895480" cy="34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838160" y="3676680"/>
            <a:ext cx="2838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1120680" y="3851280"/>
            <a:ext cx="2895840" cy="2647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3884760" y="252360"/>
            <a:ext cx="3485880" cy="349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3"/>
          <a:stretch/>
        </p:blipFill>
        <p:spPr>
          <a:xfrm>
            <a:off x="7068960" y="3851280"/>
            <a:ext cx="29340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563920" y="1378080"/>
            <a:ext cx="715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agra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44440" y="1363680"/>
          <a:ext cx="2524320" cy="2247840"/>
        </p:xfrm>
        <a:graphic>
          <a:graphicData uri="http://schemas.openxmlformats.org/drawingml/2006/table">
            <a:tbl>
              <a:tblPr/>
              <a:tblGrid>
                <a:gridCol w="2524320"/>
              </a:tblGrid>
              <a:tr h="41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flux: 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temp: 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get_flux():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set_flux (flux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get_temp():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set_temp(temp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46480" y="291960"/>
          <a:ext cx="2679840" cy="1833840"/>
        </p:xfrm>
        <a:graphic>
          <a:graphicData uri="http://schemas.openxmlformats.org/drawingml/2006/table">
            <a:tbl>
              <a:tblPr/>
              <a:tblGrid>
                <a:gridCol w="26798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486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urrent_flux: 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792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calculate_needed_flux (flux,current_flux): new_fl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092480" y="2789280"/>
          <a:ext cx="2694240" cy="1712880"/>
        </p:xfrm>
        <a:graphic>
          <a:graphicData uri="http://schemas.openxmlformats.org/drawingml/2006/table">
            <a:tbl>
              <a:tblPr/>
              <a:tblGrid>
                <a:gridCol w="26942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urrent_temp: 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calculate_needed_temp (temp,current_temp): new_te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87520" y="4443480"/>
          <a:ext cx="2992320" cy="1920960"/>
        </p:xfrm>
        <a:graphic>
          <a:graphicData uri="http://schemas.openxmlformats.org/drawingml/2006/table">
            <a:tbl>
              <a:tblPr/>
              <a:tblGrid>
                <a:gridCol w="2992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ity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urrent_flux: 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urrent_temp: 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calculate_cost (current_temp, current_flux): 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201160" y="1936800"/>
          <a:ext cx="2784240" cy="1660320"/>
        </p:xfrm>
        <a:graphic>
          <a:graphicData uri="http://schemas.openxmlformats.org/drawingml/2006/table">
            <a:tbl>
              <a:tblPr/>
              <a:tblGrid>
                <a:gridCol w="27842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u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379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ew_flux: 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open_shutter(new_flux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close_shutter(new_flux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234280" y="139680"/>
          <a:ext cx="3214800" cy="153360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m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ew_flux: 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800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change_rightness (new_flux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8188200" y="3913200"/>
          <a:ext cx="2735280" cy="166860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 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38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ew_temp: 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open_vents(new_temp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close_vents(new_temp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grpSp>
        <p:nvGrpSpPr>
          <p:cNvPr id="67" name="Group 21"/>
          <p:cNvGrpSpPr/>
          <p:nvPr/>
        </p:nvGrpSpPr>
        <p:grpSpPr>
          <a:xfrm>
            <a:off x="2682000" y="1254240"/>
            <a:ext cx="1478880" cy="931320"/>
            <a:chOff x="2682000" y="1254240"/>
            <a:chExt cx="1478880" cy="931320"/>
          </a:xfrm>
        </p:grpSpPr>
        <p:sp>
          <p:nvSpPr>
            <p:cNvPr id="68" name="Straight Connector 19"/>
            <p:cNvSpPr/>
            <p:nvPr/>
          </p:nvSpPr>
          <p:spPr>
            <a:xfrm flipV="1">
              <a:off x="2955600" y="1254240"/>
              <a:ext cx="1205280" cy="68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Isosceles Triangle 20"/>
            <p:cNvSpPr/>
            <p:nvPr/>
          </p:nvSpPr>
          <p:spPr>
            <a:xfrm rot="14397600">
              <a:off x="2711520" y="1833480"/>
              <a:ext cx="347760" cy="268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2699640" y="2953080"/>
            <a:ext cx="1395720" cy="748440"/>
            <a:chOff x="2699640" y="2953080"/>
            <a:chExt cx="1395720" cy="748440"/>
          </a:xfrm>
        </p:grpSpPr>
        <p:sp>
          <p:nvSpPr>
            <p:cNvPr id="71" name="Straight Connector 23"/>
            <p:cNvSpPr/>
            <p:nvPr/>
          </p:nvSpPr>
          <p:spPr>
            <a:xfrm>
              <a:off x="2941560" y="3198960"/>
              <a:ext cx="1153800" cy="50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Isosceles Triangle 24"/>
            <p:cNvSpPr/>
            <p:nvPr/>
          </p:nvSpPr>
          <p:spPr>
            <a:xfrm rot="17578200">
              <a:off x="2706120" y="3038040"/>
              <a:ext cx="347400" cy="244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5"/>
          <p:cNvGrpSpPr/>
          <p:nvPr/>
        </p:nvGrpSpPr>
        <p:grpSpPr>
          <a:xfrm>
            <a:off x="6771960" y="525240"/>
            <a:ext cx="1441440" cy="605880"/>
            <a:chOff x="6771960" y="525240"/>
            <a:chExt cx="1441440" cy="605880"/>
          </a:xfrm>
        </p:grpSpPr>
        <p:sp>
          <p:nvSpPr>
            <p:cNvPr id="74" name="Straight Connector 26"/>
            <p:cNvSpPr/>
            <p:nvPr/>
          </p:nvSpPr>
          <p:spPr>
            <a:xfrm flipV="1">
              <a:off x="7013160" y="525240"/>
              <a:ext cx="1200240" cy="3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Isosceles Triangle 27"/>
            <p:cNvSpPr/>
            <p:nvPr/>
          </p:nvSpPr>
          <p:spPr>
            <a:xfrm rot="15091200">
              <a:off x="6768360" y="804240"/>
              <a:ext cx="349200" cy="244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8"/>
          <p:cNvGrpSpPr/>
          <p:nvPr/>
        </p:nvGrpSpPr>
        <p:grpSpPr>
          <a:xfrm>
            <a:off x="6773400" y="1503720"/>
            <a:ext cx="1395720" cy="748440"/>
            <a:chOff x="6773400" y="1503720"/>
            <a:chExt cx="1395720" cy="748440"/>
          </a:xfrm>
        </p:grpSpPr>
        <p:sp>
          <p:nvSpPr>
            <p:cNvPr id="77" name="Straight Connector 29"/>
            <p:cNvSpPr/>
            <p:nvPr/>
          </p:nvSpPr>
          <p:spPr>
            <a:xfrm>
              <a:off x="7015320" y="1749600"/>
              <a:ext cx="1153800" cy="50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Isosceles Triangle 30"/>
            <p:cNvSpPr/>
            <p:nvPr/>
          </p:nvSpPr>
          <p:spPr>
            <a:xfrm rot="17578200">
              <a:off x="6779880" y="1588680"/>
              <a:ext cx="347400" cy="244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34"/>
          <p:cNvGrpSpPr/>
          <p:nvPr/>
        </p:nvGrpSpPr>
        <p:grpSpPr>
          <a:xfrm>
            <a:off x="6714720" y="3595320"/>
            <a:ext cx="1475280" cy="781560"/>
            <a:chOff x="6714720" y="3595320"/>
            <a:chExt cx="1475280" cy="781560"/>
          </a:xfrm>
        </p:grpSpPr>
        <p:sp>
          <p:nvSpPr>
            <p:cNvPr id="80" name="Straight Connector 35"/>
            <p:cNvSpPr/>
            <p:nvPr/>
          </p:nvSpPr>
          <p:spPr>
            <a:xfrm>
              <a:off x="6968520" y="3845520"/>
              <a:ext cx="1221480" cy="53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Isosceles Triangle 36"/>
            <p:cNvSpPr/>
            <p:nvPr/>
          </p:nvSpPr>
          <p:spPr>
            <a:xfrm rot="17578200">
              <a:off x="6727680" y="3676320"/>
              <a:ext cx="347760" cy="25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37"/>
          <p:cNvGrpSpPr/>
          <p:nvPr/>
        </p:nvGrpSpPr>
        <p:grpSpPr>
          <a:xfrm>
            <a:off x="5439600" y="4421880"/>
            <a:ext cx="952200" cy="1401480"/>
            <a:chOff x="5439600" y="4421880"/>
            <a:chExt cx="952200" cy="1401480"/>
          </a:xfrm>
        </p:grpSpPr>
        <p:sp>
          <p:nvSpPr>
            <p:cNvPr id="83" name="Straight Connector 38"/>
            <p:cNvSpPr/>
            <p:nvPr/>
          </p:nvSpPr>
          <p:spPr>
            <a:xfrm>
              <a:off x="5692680" y="4692600"/>
              <a:ext cx="699120" cy="113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Isosceles Triangle 39"/>
            <p:cNvSpPr/>
            <p:nvPr/>
          </p:nvSpPr>
          <p:spPr>
            <a:xfrm rot="19663200">
              <a:off x="5481000" y="4494600"/>
              <a:ext cx="347760" cy="25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5" name=""/>
          <p:cNvGraphicFramePr/>
          <p:nvPr/>
        </p:nvGraphicFramePr>
        <p:xfrm>
          <a:off x="4809960" y="5243400"/>
          <a:ext cx="2955960" cy="1486080"/>
        </p:xfrm>
        <a:graphic>
          <a:graphicData uri="http://schemas.openxmlformats.org/drawingml/2006/table">
            <a:tbl>
              <a:tblPr/>
              <a:tblGrid>
                <a:gridCol w="2955960"/>
              </a:tblGrid>
              <a:tr h="387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 Conditio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ew_temp: 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change_temp (new_temp)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grpSp>
        <p:nvGrpSpPr>
          <p:cNvPr id="86" name="Group 58"/>
          <p:cNvGrpSpPr/>
          <p:nvPr/>
        </p:nvGrpSpPr>
        <p:grpSpPr>
          <a:xfrm>
            <a:off x="3224160" y="488880"/>
            <a:ext cx="936720" cy="3943440"/>
            <a:chOff x="3224160" y="488880"/>
            <a:chExt cx="936720" cy="3943440"/>
          </a:xfrm>
        </p:grpSpPr>
        <p:sp>
          <p:nvSpPr>
            <p:cNvPr id="87" name="Straight Connector 53"/>
            <p:cNvSpPr/>
            <p:nvPr/>
          </p:nvSpPr>
          <p:spPr>
            <a:xfrm flipH="1" flipV="1">
              <a:off x="3224160" y="488880"/>
              <a:ext cx="93672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Straight Connector 55"/>
            <p:cNvSpPr/>
            <p:nvPr/>
          </p:nvSpPr>
          <p:spPr>
            <a:xfrm>
              <a:off x="3224160" y="490320"/>
              <a:ext cx="0" cy="394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67"/>
          <p:cNvGrpSpPr/>
          <p:nvPr/>
        </p:nvGrpSpPr>
        <p:grpSpPr>
          <a:xfrm>
            <a:off x="3579840" y="4506840"/>
            <a:ext cx="966240" cy="851040"/>
            <a:chOff x="3579840" y="4506840"/>
            <a:chExt cx="966240" cy="851040"/>
          </a:xfrm>
        </p:grpSpPr>
        <p:sp>
          <p:nvSpPr>
            <p:cNvPr id="90" name="Straight Connector 63"/>
            <p:cNvSpPr/>
            <p:nvPr/>
          </p:nvSpPr>
          <p:spPr>
            <a:xfrm flipH="1">
              <a:off x="4533480" y="4506840"/>
              <a:ext cx="12600" cy="83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Straight Connector 65"/>
            <p:cNvSpPr/>
            <p:nvPr/>
          </p:nvSpPr>
          <p:spPr>
            <a:xfrm flipH="1">
              <a:off x="3579840" y="5357880"/>
              <a:ext cx="95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extBox 68"/>
          <p:cNvSpPr/>
          <p:nvPr/>
        </p:nvSpPr>
        <p:spPr>
          <a:xfrm>
            <a:off x="3619440" y="23004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9"/>
          <p:cNvSpPr/>
          <p:nvPr/>
        </p:nvSpPr>
        <p:spPr>
          <a:xfrm>
            <a:off x="4102200" y="4511520"/>
            <a:ext cx="62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0"/>
          <p:cNvSpPr/>
          <p:nvPr/>
        </p:nvSpPr>
        <p:spPr>
          <a:xfrm>
            <a:off x="2932200" y="4130640"/>
            <a:ext cx="6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1"/>
          <p:cNvSpPr/>
          <p:nvPr/>
        </p:nvSpPr>
        <p:spPr>
          <a:xfrm>
            <a:off x="3535200" y="506268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563920" y="1378080"/>
            <a:ext cx="715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Diagra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\\dougal\cs0m$\sxh33m\Desktop\OOS\Sequence.jpg"/>
          <p:cNvPicPr/>
          <p:nvPr/>
        </p:nvPicPr>
        <p:blipFill>
          <a:blip r:embed="rId1"/>
          <a:stretch/>
        </p:blipFill>
        <p:spPr>
          <a:xfrm>
            <a:off x="372960" y="415800"/>
            <a:ext cx="1155384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14:14:47Z</dcterms:created>
  <dc:creator>Hebah ali</dc:creator>
  <dc:description/>
  <dc:language>en-US</dc:language>
  <cp:lastModifiedBy>Samuel Hipwell</cp:lastModifiedBy>
  <dcterms:modified xsi:type="dcterms:W3CDTF">2014-02-21T09:48:18Z</dcterms:modified>
  <cp:revision>21</cp:revision>
  <dc:subject/>
  <dc:title>PowerPoint Presentation</dc:title>
</cp:coreProperties>
</file>